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D043-8208-465C-B5AC-F971AFEC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7B58-DB81-454F-9775-40D2C086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F176-B885-44C8-983D-294A7113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7522-2801-4431-AA05-9A50AAF2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A97C-9D43-4DEB-B1F0-7475E9A7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61D3-858D-48DD-A03E-2CD03667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E7C6-4600-42D9-9102-9A37EF9C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3185-347F-459D-B76B-B670FAA4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691C-9A11-44A1-A26E-A9E17ADA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2396-97B8-4C16-B94F-53482821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8A81-0747-434A-91D3-E954BBF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5533-29E4-4969-90A0-70BAD782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B7D0-3CEA-4E0E-B63F-EDC0ACB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A14D-1937-43B6-B85A-EC2741D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38C1-B8D1-4B9D-8578-B462059C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B021-C101-497D-BE09-2FED1065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53C6-D723-4515-90DC-1C331DC6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3223-9A7B-4565-B815-A779B5BA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742A-F5CF-4CAA-9043-8696576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6873-6BFC-4E04-9E4E-37037D1C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1D89-010B-426A-B072-41C0073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3747-B7FF-411E-BA5C-1D7F0F78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FF20-2E8A-40EE-98F8-6E9CC1BC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EE42-0EF2-442F-BCA4-C0B2196D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DDFA-2306-4C95-8EAE-29B202A9A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BE7D-0AB3-4F1F-92D4-17E78987E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5480" y="1447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rm-up:  MSA Review Day 10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area of a composite figur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Split the area into common figur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 Find the area of the each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 Add all the area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3657600"/>
            <a:ext cx="1295640" cy="1981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2895480"/>
            <a:ext cx="6858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22080" y="4572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3480" y="3352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6320" y="2592360"/>
            <a:ext cx="46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be a challenge when find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is composite fig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missing sides, move the opposite sides so that they line up to equal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48604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3800" y="2590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416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904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9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76720" y="4303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019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jective:  Students will use their knowledge of area of triangles and rectangles to find the area of Composite Fig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tner Pract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Homework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osite Figure Work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0:12Z</dcterms:created>
  <dc:creator>ccps</dc:creator>
  <dc:description/>
  <dc:language>en-US</dc:language>
  <cp:lastModifiedBy>deanne elizabeth mcgrath</cp:lastModifiedBy>
  <dcterms:modified xsi:type="dcterms:W3CDTF">2011-02-25T13:31:46Z</dcterms:modified>
  <cp:revision>12</cp:revision>
  <dc:subject/>
  <dc:title>Geometry</dc:title>
</cp:coreProperties>
</file>